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BC48-43F9-4457-8E62-2762CE8C7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D74D-60E9-484A-B032-41AA2866FFB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E0D2A-3B8B-4852-B934-021BC72EB3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76315-D22B-409C-8A0E-ADFABB39B2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4274C-E993-46F7-998D-DDC3EF4DCF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11434-8066-4872-966B-0E050CAB7A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CB8E6-A022-4491-807D-FB6E6FB0B0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DDB19-ABC4-44A4-B33F-6EBD5A15C34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BEDC6-31C2-4730-84F6-554906BA758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79CDC-B46C-404B-A8A2-27B4069229B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87C79-E571-449F-BF69-AD40A5A2B1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E379-7D45-46FD-A679-C354D643E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EA12-A687-4356-84D6-27B72F77BC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E723-9613-4BA4-9B6B-D0714FA60B5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BD94-B8FF-4201-8AE7-AE4A823246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E1D7-82D1-4E7A-8074-BFA21F615C0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2511-4DD1-482B-BAFE-8E31F79F51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563D-38AB-4806-B9C6-EF8FF69FC9E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1C03-04D2-4150-8D7D-B8E78731D8B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A203-49C6-4EC7-AE0E-E04AEFCF24A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8839-6A3C-462C-8B7C-214E0F1198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D58B-2332-40AB-987C-20DB09B45A1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289C-C459-4A39-9C1E-E42E8C04C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5A76-A977-45B6-991E-8E70FE50745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ECF9-6D23-41C1-AEE1-EFB1192ADBB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FB392-56AE-4A90-8A49-8E42C2CB6CD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79FD4-F0BD-436C-A193-F8F66BE9A35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1824F-7125-446A-BFA7-AC754E60006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879E4-0B53-4A11-8926-4B646873AF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F83D3-3743-49F7-B5EA-95A76148E07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29F61-1AB4-49B2-9B57-B3EE85DF819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AE157-1779-4B6A-8AF6-6BE84F8898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47582-972C-4D53-8DC7-0845664D23E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9CBA8-E01F-4180-9129-38159CD24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7B22E-8004-4FB0-BEA6-1C5ACF93CC4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A2765-FAE6-4B80-A175-F2C1E3FD392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EA634-C1A7-4309-9F96-0D8FA67626A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08077-3BAB-4D34-BD43-36252547D3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096E-E9CF-4818-A12F-E44D69E563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17AC-F93F-463F-AD5F-CFC117107B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32AA-1CAB-4776-97A7-FDDF5A0CE6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1845-5C93-4A50-AF56-D2697D4F1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AC56-7567-4193-994F-DD2F306E0C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934F-7A4A-44EE-9E4D-C3C55D808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A705-6789-47E3-9923-351FAE55D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943A-702E-4668-AE70-AA4470C5CA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9EBE-A1BE-4B7C-9286-8547A60014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53FF-78A9-4049-A276-0B216D2024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A8EA-AC15-4355-A161-8FD3D3E483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E4E0-4D95-4131-A152-23CA5E345B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03D-66B8-4A5B-AD56-6338879D75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12C-125F-4FFE-BE71-A52381BF37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38C-D43B-451F-B5F5-9ED6185514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8FA-EF44-447F-A4C2-F902E508C5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C2F-18B6-4710-940B-0400D8045A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3359-1DAE-4958-ADA3-D055C72553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00E-323A-4C4C-A2AC-ECA295A01E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EAE-2651-4E4E-A3A9-BAD29165E2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00C-45FB-4350-BA39-2B1080BD0D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41A-05EC-43CC-A3EA-28E1AA9B16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9FD-3347-4401-B2B1-C6EDD66E43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857-7A57-4D65-A5C1-9AEDD1D46A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25C-A80D-48CB-8712-E4AC5CE90E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57899-B4A2-45A7-A6DB-30E3E1E279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C6CA5-05AE-4586-93BC-2DD2C5EB40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DDBD0-023E-4CC6-B70D-8951F4793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8E5C-0F8C-412B-8578-EE697A334F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94E9B-8532-40BC-8889-006A24A402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CE0DB-6537-4A0E-B910-B594123ECC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4CD2B-79C6-4241-8D78-0F67050E64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BB6D3-2F6E-4A63-8E74-06B7806679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24C03-79DD-4D10-9E9D-8E35E49F0E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FB5AD-DF0E-4785-9142-D750AB3D5A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8953D-A7DD-48FE-9974-9D2DDFBE68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1D5C0-3CDB-4269-97FB-9708380509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66666-9042-42D0-B55B-2EAE41085D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865C6-5275-4908-B308-65250DD60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366D-4073-4538-92A6-DA1173C670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B176A-3FBF-40FA-9F8F-5B9C00855F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BF4FE-5BE0-41C1-8EB3-57F224FF77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AA26F-3603-4FA8-AB24-916C23685E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F04BC-E922-4868-A40C-D5281492A5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C335F-ACEE-4E83-AFDB-C8151480533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FECE7-EC9D-4716-A611-396E909C47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226C0-8B4C-43DA-AA42-1FF2841EE76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33739-0818-4498-AE55-B912D05693F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71105-B963-4367-BBE6-E10C024E71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E330A-9C60-415F-84BC-4E31E3D4B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E4E3-6E80-47FB-B8D3-F041043F6F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07645-3C6B-408E-A0A1-40CC656194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8F5A-A6FA-43AC-BD0A-19523ABFF4C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F8D3-A280-4346-AFB6-AA11E27DEC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8240-22C3-4B9B-A591-8E60508419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6B6F-A530-4432-8844-41E06A165A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5562-0BC5-4CF0-B9E8-416B26AE19B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095A-B8A6-4C43-A554-651E9BE7B5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8567-A2F3-45F6-B296-2B84163EA1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4228-0725-462D-8AD7-46037D5673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1AE0-EEAE-414C-8096-6423AD9A5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E9D3-D2E8-4A25-B61F-A0AA327EAD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924-6AB0-4F12-9B58-B67EB8891B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435A-1C70-4C60-B1AC-9211B0F6C2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3A1B-6105-4C97-A266-49042C267B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FEFA-81B0-4AF4-B217-A4F3F27156D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CCB09-F0E5-4D04-8462-B0F4E08266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694DF4-CD80-43E7-8D2D-91E07AEEF5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0439E-B6F5-4972-8D3B-9272EE3F30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4AC4A8-09F0-4F30-8354-EA99071BF6C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64450-F493-467A-B32B-9039F3C99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DC1C-ACF8-4EF7-B0BC-E18B856E4A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961E0D-E14D-41D7-BE4C-2FF2808D69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49B5E2-0633-4A44-83F2-1CDF8C3607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C767D-504F-48DD-B61D-91FC179BA60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87496-C015-489B-A947-16E90DC1EA2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60069-354E-481A-AF2D-B93C2C7759D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23498-A3E6-43C3-B134-D44873A8FF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8CC4C-581D-41BA-A13F-F4BE682AFCF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1BA00-9F3A-4FB0-9152-6C5D3600B0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17B4D-AB54-4920-896A-E0C6F23CDB7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7CBCF-C857-4BD7-9310-AAD82BD7F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0E7E-46BB-4F5E-8437-6C8BB27680CD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370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371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372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373" name="Picture 5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ldNum" idx="9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A35C-2C99-4EE8-9801-1A7012245AB2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412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413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414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415" name="Picture 5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ldNum" idx="10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D332-F998-4A40-A49D-2E745E5B5FE4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6A2-CA0A-453D-9BFD-AC3E6CE42DA9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22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79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366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1366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1366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77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78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79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80" name="Picture 5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3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2600-0F7D-4EAE-A932-0F9465E05066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119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120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121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122" name="Picture 5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sldNum" idx="4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5E30-491C-4BDE-8C65-AF9B5871A021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161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162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163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164" name="Picture 5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74E9-441F-4B22-937A-CC1B6FD35ACA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203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204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205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206" name="Picture 5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ldNum" idx="6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A297-BA20-49E2-9B8E-DB2A66454CB4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245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246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247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248" name="Picture 5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286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287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288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289" name="Picture 5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sldNum" idx="7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DD73-CD17-4AE5-9274-8C43DF9C5FB7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328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329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330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331" name="Picture 5" descr=""/>
          <p:cNvPicPr/>
          <p:nvPr/>
        </p:nvPicPr>
        <p:blipFill>
          <a:blip r:embed="rId2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sldNum" idx="8"/>
          </p:nvPr>
        </p:nvSpPr>
        <p:spPr>
          <a:xfrm>
            <a:off x="7724880" y="6400800"/>
            <a:ext cx="39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C41-4C54-4C8D-86EA-30A90F490E1D}" type="slidenum"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454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455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456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457" name="Picture 5" descr=""/>
          <p:cNvPicPr/>
          <p:nvPr/>
        </p:nvPicPr>
        <p:blipFill>
          <a:blip r:embed="rId1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6"/>
          <p:cNvSpPr/>
          <p:nvPr/>
        </p:nvSpPr>
        <p:spPr>
          <a:xfrm>
            <a:off x="539640" y="1341360"/>
            <a:ext cx="82170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Corso: </a:t>
            </a:r>
            <a:r>
              <a:rPr b="0" lang="en-US" sz="2000" spc="-1" strike="noStrike">
                <a:solidFill>
                  <a:srgbClr val="ff3300"/>
                </a:solidFill>
                <a:latin typeface="Verdana Bold"/>
                <a:ea typeface="Verdana Bold"/>
              </a:rPr>
              <a:t>Storia dell’arte contemporanea</a:t>
            </a: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Docente: Prof.ssa Anna Mazzanti</a:t>
            </a: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Cultore: dott.ssa Eleonora Charans</a:t>
            </a: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CdLM a cui è offerto: tutti i CdLM  (no D&amp;E)</a:t>
            </a: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Semestre: 1°</a:t>
            </a: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Lingua di erogazione: italiano</a:t>
            </a: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N° max studenti ammessi: 80 Polimi + 20 Erasmus</a:t>
            </a: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Modalità d’esame per non frequentanti: è possibile sostenere l’esame che si svolgerà attraverso un colloquio, ma la frequenza è caldamente consigliata.</a:t>
            </a: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1036440" y="158760"/>
            <a:ext cx="651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old"/>
                <a:ea typeface="Arial Bold"/>
              </a:rPr>
              <a:t>Corsi a scelta Laurea Magistrale - 1°semestre</a:t>
            </a:r>
            <a:endParaRPr b="0" lang="en-US" sz="2400" spc="-1" strike="noStrike">
              <a:solidFill>
                <a:srgbClr val="ffffff"/>
              </a:solidFill>
              <a:latin typeface="Verdana Bold"/>
            </a:endParaRPr>
          </a:p>
        </p:txBody>
      </p:sp>
      <p:sp>
        <p:nvSpPr>
          <p:cNvPr id="460" name="Rectangle 8"/>
          <p:cNvSpPr/>
          <p:nvPr/>
        </p:nvSpPr>
        <p:spPr>
          <a:xfrm>
            <a:off x="4788000" y="6583320"/>
            <a:ext cx="4356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Presentazione Corsi a scelta II Livello – 9 settembre '14</a:t>
            </a:r>
            <a:endParaRPr b="0" lang="en-US" sz="1200" spc="-1" strike="noStrike">
              <a:solidFill>
                <a:srgbClr val="ffffff"/>
              </a:solidFill>
              <a:latin typeface="Verdana Bold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539640" y="4579920"/>
            <a:ext cx="81406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Il corso riguarda le espressioni artistiche fra XIX e XXI secolo </a:t>
            </a:r>
            <a:endParaRPr b="0" lang="en-US" sz="16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Si  prediligerà un approccio critico per la comprensione delle opere d’arte e dei loro contesti come palinsesti comunicativi per il designer. Si osserveranno la capacità di interpretare e rinnovare le eredità culturali, le modificazioni nelle tecniche e nell’uso dei materiali sempre più provenienti da territori extra-artistici nel lungo arco di tempo considerato. Il nostro scopo è quello di acuire il background culturale degli studenti e di mettere in sinergia le loro competenze e i loro interessi nei diversi corsi di laurea. </a:t>
            </a:r>
            <a:endParaRPr b="0" lang="en-US" sz="16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463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464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465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466" name="Picture 5" descr=""/>
          <p:cNvPicPr/>
          <p:nvPr/>
        </p:nvPicPr>
        <p:blipFill>
          <a:blip r:embed="rId1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6"/>
          <p:cNvSpPr/>
          <p:nvPr/>
        </p:nvSpPr>
        <p:spPr>
          <a:xfrm>
            <a:off x="1036440" y="158760"/>
            <a:ext cx="651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old"/>
                <a:ea typeface="Arial Bold"/>
              </a:rPr>
              <a:t>Corsi a scelta Laurea Magistrale - 1°semestre</a:t>
            </a:r>
            <a:endParaRPr b="0" lang="en-US" sz="2400" spc="-1" strike="noStrike">
              <a:solidFill>
                <a:srgbClr val="ffffff"/>
              </a:solidFill>
              <a:latin typeface="Verdana Bold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4788000" y="6583320"/>
            <a:ext cx="4356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Presentazione Corsi a scelta II Livello – 9 settembre '14</a:t>
            </a:r>
            <a:endParaRPr b="0" lang="en-US" sz="1200" spc="-1" strike="noStrike">
              <a:solidFill>
                <a:srgbClr val="ffffff"/>
              </a:solidFill>
              <a:latin typeface="Verdana Bold"/>
            </a:endParaRPr>
          </a:p>
        </p:txBody>
      </p:sp>
      <p:pic>
        <p:nvPicPr>
          <p:cNvPr id="469" name="Picture 8" descr=""/>
          <p:cNvPicPr/>
          <p:nvPr/>
        </p:nvPicPr>
        <p:blipFill>
          <a:blip r:embed="rId2"/>
          <a:stretch/>
        </p:blipFill>
        <p:spPr>
          <a:xfrm>
            <a:off x="1330200" y="1052640"/>
            <a:ext cx="3025800" cy="1896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9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1942920" cy="2735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"/>
          <p:cNvPicPr/>
          <p:nvPr/>
        </p:nvPicPr>
        <p:blipFill>
          <a:blip r:embed="rId4"/>
          <a:stretch/>
        </p:blipFill>
        <p:spPr>
          <a:xfrm>
            <a:off x="2340000" y="4076640"/>
            <a:ext cx="2700360" cy="1790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1" descr=""/>
          <p:cNvPicPr/>
          <p:nvPr/>
        </p:nvPicPr>
        <p:blipFill>
          <a:blip r:embed="rId5"/>
          <a:stretch/>
        </p:blipFill>
        <p:spPr>
          <a:xfrm>
            <a:off x="103320" y="5937120"/>
            <a:ext cx="7711920" cy="609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2" descr=""/>
          <p:cNvPicPr/>
          <p:nvPr/>
        </p:nvPicPr>
        <p:blipFill>
          <a:blip r:embed="rId6"/>
          <a:stretch/>
        </p:blipFill>
        <p:spPr>
          <a:xfrm>
            <a:off x="6012000" y="4292640"/>
            <a:ext cx="2423880" cy="14749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" descr=""/>
          <p:cNvPicPr/>
          <p:nvPr/>
        </p:nvPicPr>
        <p:blipFill>
          <a:blip r:embed="rId7"/>
          <a:stretch/>
        </p:blipFill>
        <p:spPr>
          <a:xfrm>
            <a:off x="4716360" y="765000"/>
            <a:ext cx="2395800" cy="31924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14"/>
          <p:cNvSpPr/>
          <p:nvPr/>
        </p:nvSpPr>
        <p:spPr>
          <a:xfrm>
            <a:off x="0" y="1484280"/>
            <a:ext cx="1549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Knut Schwitters,</a:t>
            </a:r>
            <a:endParaRPr b="0" lang="en-US" sz="1400" spc="-1" strike="noStrike">
              <a:solidFill>
                <a:srgbClr val="ffffff"/>
              </a:solidFill>
              <a:latin typeface="Verdana 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Merzbau</a:t>
            </a:r>
            <a:endParaRPr b="0" lang="en-US" sz="14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477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478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479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480" name="Picture 5" descr=""/>
          <p:cNvPicPr/>
          <p:nvPr/>
        </p:nvPicPr>
        <p:blipFill>
          <a:blip r:embed="rId1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6"/>
          <p:cNvSpPr/>
          <p:nvPr/>
        </p:nvSpPr>
        <p:spPr>
          <a:xfrm>
            <a:off x="1036440" y="158760"/>
            <a:ext cx="651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old"/>
                <a:ea typeface="Arial Bold"/>
              </a:rPr>
              <a:t>Corsi a scelta Laurea Magistrale - 1°semestre</a:t>
            </a:r>
            <a:endParaRPr b="0" lang="en-US" sz="2400" spc="-1" strike="noStrike">
              <a:solidFill>
                <a:srgbClr val="ffffff"/>
              </a:solidFill>
              <a:latin typeface="Verdana Bold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4788000" y="6583320"/>
            <a:ext cx="4356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Presentazione Corsi a scelta II Livello – 9 settembre '14</a:t>
            </a:r>
            <a:endParaRPr b="0" lang="en-US" sz="1200" spc="-1" strike="noStrike">
              <a:solidFill>
                <a:srgbClr val="ffffff"/>
              </a:solidFill>
              <a:latin typeface="Verdana Bold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468360" y="1341360"/>
            <a:ext cx="8356680" cy="43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434"/>
                </a:solidFill>
                <a:latin typeface="Arial Bold Italic"/>
                <a:ea typeface="Arial Bold Italic"/>
              </a:rPr>
              <a:t>La parte seminariale del corso sarà dedicata al tema dell’</a:t>
            </a:r>
            <a:r>
              <a:rPr b="0" lang="en-US" sz="2000" spc="-1" strike="noStrike">
                <a:solidFill>
                  <a:srgbClr val="343434"/>
                </a:solidFill>
                <a:latin typeface="Arial Italic"/>
                <a:ea typeface="Arial Italic"/>
              </a:rPr>
              <a:t>Orientalismo fra XIX e XXI secolo</a:t>
            </a:r>
            <a:r>
              <a:rPr b="0" lang="en-US" sz="2000" spc="-1" strike="noStrike">
                <a:solidFill>
                  <a:srgbClr val="343434"/>
                </a:solidFill>
                <a:latin typeface="Arial Bold Italic"/>
                <a:ea typeface="Arial Bold Italic"/>
              </a:rPr>
              <a:t>. Alla vigilia dell’Expo 2015, momento di confronto interculturale, e di presenze multietniche nella città di Milano, ci pare in sintonia l’indagine che analizzerà l’evolversi di questa espressione artistica e culturale per la quale, nelle sue diverse fasi, resta sempre attore principale l’Occidente e il suo modo di recepire le terre lontane d’Oriente. Apriremo comunque il nostro sguardo anche al processo opposto per osservare aspetti della veicolazione degli echi occidentali nella cultura artistica orientale: dai movimenti storicizzati come l’astrattismo Gutaj che genera sinergie fra l’elaborazione delle forme astratte e gestuali occidentali con l’essenzialità spirituale della tradizione giapponese fino ai contemporanei: dal fenomeno Wei Wei, agli artisti mediorientali come la fotografa e video artista Shirin Neshiat o  Abbas Kiarostami. </a:t>
            </a:r>
            <a:endParaRPr b="0" lang="en-US" sz="2000" spc="-1" strike="noStrike">
              <a:solidFill>
                <a:srgbClr val="ffffff"/>
              </a:solidFill>
              <a:latin typeface="Verdana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485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486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487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488" name="Picture 5" descr=""/>
          <p:cNvPicPr/>
          <p:nvPr/>
        </p:nvPicPr>
        <p:blipFill>
          <a:blip r:embed="rId1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8920" y="3499920"/>
            <a:ext cx="5040360" cy="69228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t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Robert Cahen, </a:t>
            </a:r>
            <a:r>
              <a:rPr b="0" lang="en-US" sz="16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Sanaa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 2007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youtube.com/watch?v=jSrSU9QIPBw</a:t>
            </a:r>
            <a:br>
              <a:rPr sz="1600"/>
            </a:br>
            <a:endParaRPr b="0" lang="en-US" sz="1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3699000" cy="29592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8"/>
          <p:cNvSpPr/>
          <p:nvPr/>
        </p:nvSpPr>
        <p:spPr>
          <a:xfrm>
            <a:off x="538200" y="4149720"/>
            <a:ext cx="4572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Verdana Bold Italic"/>
                <a:ea typeface="Verdana Bold Italic"/>
              </a:rPr>
              <a:t>“</a:t>
            </a:r>
            <a:r>
              <a:rPr b="0" lang="en-US" sz="1400" spc="-1" strike="noStrike">
                <a:solidFill>
                  <a:srgbClr val="343434"/>
                </a:solidFill>
                <a:latin typeface="Verdana Bold Italic"/>
                <a:ea typeface="Verdana Bold Italic"/>
              </a:rPr>
              <a:t>tutto il grazioso quartiere orientale era illuminato a lampadine multicolori. Poco prima delle dieci i componenti la colonia, egiziani e nubiani, formarono una carovana pittoresca che con suono di pifferi, nenie di donne e picchiar di tamburi dava alle vie in miniatura l’animazione delle sere festive. Erano nella carovana i veloci muletti e dromedari” </a:t>
            </a:r>
            <a:r>
              <a:rPr b="0" lang="en-US" sz="1400" spc="-1" strike="noStrike">
                <a:solidFill>
                  <a:srgbClr val="343434"/>
                </a:solidFill>
                <a:latin typeface="Verdana Bold"/>
                <a:ea typeface="Verdana Bold"/>
              </a:rPr>
              <a:t> </a:t>
            </a:r>
            <a:r>
              <a:rPr b="0" lang="en-US" sz="1400" spc="-1" strike="noStrike">
                <a:solidFill>
                  <a:srgbClr val="343434"/>
                </a:solidFill>
                <a:latin typeface="Verdana Bold Italic"/>
                <a:ea typeface="Verdana Bold Italic"/>
              </a:rPr>
              <a:t>La festa al Cairo</a:t>
            </a:r>
            <a:r>
              <a:rPr b="0" lang="en-US" sz="1400" spc="-1" strike="noStrike">
                <a:solidFill>
                  <a:srgbClr val="343434"/>
                </a:solidFill>
                <a:latin typeface="Verdana Bold"/>
                <a:ea typeface="Verdana Bold"/>
              </a:rPr>
              <a:t>, Esposizione Internazionale del Sempione, “Il Secolo”, 25 luglio 1906 </a:t>
            </a:r>
            <a:endParaRPr b="0" lang="en-US" sz="1400" spc="-1" strike="noStrike">
              <a:solidFill>
                <a:srgbClr val="ffffff"/>
              </a:solidFill>
              <a:latin typeface="Verdana Bold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5651640" y="4869000"/>
            <a:ext cx="331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 Bold"/>
                <a:ea typeface="Arial Bold"/>
              </a:rPr>
              <a:t>Alberto Pasini, </a:t>
            </a:r>
            <a:r>
              <a:rPr b="0" lang="en-US" sz="1400" spc="-1" strike="noStrike">
                <a:solidFill>
                  <a:srgbClr val="343434"/>
                </a:solidFill>
                <a:latin typeface="Arial Bold Italic"/>
                <a:ea typeface="Arial Bold Italic"/>
              </a:rPr>
              <a:t>La moschea di Tulun, Via del Cairo</a:t>
            </a:r>
            <a:r>
              <a:rPr b="0" lang="en-US" sz="1400" spc="-1" strike="noStrike">
                <a:solidFill>
                  <a:srgbClr val="343434"/>
                </a:solidFill>
                <a:latin typeface="Arial Bold"/>
                <a:ea typeface="Arial Bold"/>
              </a:rPr>
              <a:t>, 1860  Piacenza Galleria Ricci-Oddi</a:t>
            </a:r>
            <a:endParaRPr b="0" lang="en-US" sz="1400" spc="-1" strike="noStrike">
              <a:solidFill>
                <a:srgbClr val="ffffff"/>
              </a:solidFill>
              <a:latin typeface="Verdana Bold"/>
            </a:endParaRPr>
          </a:p>
        </p:txBody>
      </p:sp>
      <p:pic>
        <p:nvPicPr>
          <p:cNvPr id="493" name="Picture 10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66732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495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496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497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498" name="Picture 5" descr=""/>
          <p:cNvPicPr/>
          <p:nvPr/>
        </p:nvPicPr>
        <p:blipFill>
          <a:blip r:embed="rId1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5651640" y="5805360"/>
            <a:ext cx="331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 Bold"/>
                <a:ea typeface="Arial Bold"/>
              </a:rPr>
              <a:t>Shirin Neshiat, Turbolent, 1998</a:t>
            </a:r>
            <a:endParaRPr b="0" lang="en-US" sz="1400" spc="-1" strike="noStrike">
              <a:solidFill>
                <a:srgbClr val="ffffff"/>
              </a:solidFill>
              <a:latin typeface="Verdana Bold"/>
            </a:endParaRPr>
          </a:p>
        </p:txBody>
      </p:sp>
      <p:pic>
        <p:nvPicPr>
          <p:cNvPr id="500" name="Picture 7" descr=""/>
          <p:cNvPicPr/>
          <p:nvPr/>
        </p:nvPicPr>
        <p:blipFill>
          <a:blip r:embed="rId2"/>
          <a:stretch/>
        </p:blipFill>
        <p:spPr>
          <a:xfrm>
            <a:off x="0" y="851040"/>
            <a:ext cx="3454560" cy="2235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3569040" cy="22730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9"/>
          <p:cNvSpPr/>
          <p:nvPr/>
        </p:nvSpPr>
        <p:spPr>
          <a:xfrm>
            <a:off x="539640" y="5732640"/>
            <a:ext cx="33148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 Bold"/>
                <a:ea typeface="Arial Bold"/>
              </a:rPr>
              <a:t>Abbas Kiarostami, Trees in snow</a:t>
            </a:r>
            <a:endParaRPr b="0" lang="en-US" sz="1400" spc="-1" strike="noStrike">
              <a:solidFill>
                <a:srgbClr val="ffffff"/>
              </a:solidFill>
              <a:latin typeface="Verdana Bold"/>
            </a:endParaRPr>
          </a:p>
        </p:txBody>
      </p:sp>
      <p:pic>
        <p:nvPicPr>
          <p:cNvPr id="503" name="Picture 10" descr=""/>
          <p:cNvPicPr/>
          <p:nvPr/>
        </p:nvPicPr>
        <p:blipFill>
          <a:blip r:embed="rId4"/>
          <a:stretch/>
        </p:blipFill>
        <p:spPr>
          <a:xfrm>
            <a:off x="5076720" y="2205000"/>
            <a:ext cx="39560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"/>
          <p:cNvGrpSpPr/>
          <p:nvPr/>
        </p:nvGrpSpPr>
        <p:grpSpPr>
          <a:xfrm>
            <a:off x="0" y="6578640"/>
            <a:ext cx="9144000" cy="304920"/>
            <a:chOff x="0" y="6578640"/>
            <a:chExt cx="9144000" cy="304920"/>
          </a:xfrm>
        </p:grpSpPr>
        <p:sp>
          <p:nvSpPr>
            <p:cNvPr id="505" name="Rectangle 2"/>
            <p:cNvSpPr/>
            <p:nvPr/>
          </p:nvSpPr>
          <p:spPr>
            <a:xfrm>
              <a:off x="0" y="6578640"/>
              <a:ext cx="9144000" cy="304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grpSp>
        <p:nvGrpSpPr>
          <p:cNvPr id="506" name="Group 3"/>
          <p:cNvGrpSpPr/>
          <p:nvPr/>
        </p:nvGrpSpPr>
        <p:grpSpPr>
          <a:xfrm>
            <a:off x="0" y="0"/>
            <a:ext cx="9313920" cy="830160"/>
            <a:chOff x="0" y="0"/>
            <a:chExt cx="9313920" cy="830160"/>
          </a:xfrm>
        </p:grpSpPr>
        <p:sp>
          <p:nvSpPr>
            <p:cNvPr id="507" name="Rectangle 4"/>
            <p:cNvSpPr/>
            <p:nvPr/>
          </p:nvSpPr>
          <p:spPr>
            <a:xfrm>
              <a:off x="0" y="0"/>
              <a:ext cx="9313920" cy="830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 Bold"/>
              </a:endParaRPr>
            </a:p>
          </p:txBody>
        </p:sp>
      </p:grpSp>
      <p:pic>
        <p:nvPicPr>
          <p:cNvPr id="508" name="Picture 5" descr=""/>
          <p:cNvPicPr/>
          <p:nvPr/>
        </p:nvPicPr>
        <p:blipFill>
          <a:blip r:embed="rId1"/>
          <a:srcRect l="0" t="0" r="0" b="20610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6"/>
          <p:cNvSpPr/>
          <p:nvPr/>
        </p:nvSpPr>
        <p:spPr>
          <a:xfrm>
            <a:off x="1711440" y="5919840"/>
            <a:ext cx="7708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Verdana Bold"/>
                <a:ea typeface="Verdana Bold"/>
              </a:rPr>
              <a:t>Wei Wei, Sunflower Seeds, 2010. Tate Museum London  </a:t>
            </a:r>
            <a:endParaRPr b="0" lang="en-US" sz="1400" spc="-1" strike="noStrike">
              <a:solidFill>
                <a:srgbClr val="ffffff"/>
              </a:solidFill>
              <a:latin typeface="Verdana Bold"/>
            </a:endParaRPr>
          </a:p>
        </p:txBody>
      </p:sp>
      <p:pic>
        <p:nvPicPr>
          <p:cNvPr id="510" name="Picture 7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7632720" cy="460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ilvia</dc:creator>
  <dc:description/>
  <cp:keywords/>
  <dc:language>en-US</dc:language>
  <cp:lastModifiedBy>De Carli</cp:lastModifiedBy>
  <dcterms:modified xsi:type="dcterms:W3CDTF">2014-09-09T09:22:10Z</dcterms:modified>
  <cp:revision>1</cp:revision>
  <dc:subject/>
  <dc:title>Inserire immagine della locandina, possibilmente in trasparenza e aggiungere Facoltà di Architettura Illustrazione prova di ammissione prof. Silvia Piardi (idem Cedolin)</dc:title>
</cp:coreProperties>
</file>